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3C6-2A49-483F-BFB2-A21F233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0D6-758C-4FAB-AF16-E2E1FC93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F16-1985-4D4B-8695-11FD2A4F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919-5EAB-48D9-BE9B-A286F14F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AA22-0D2E-4E1E-AC06-69E6D35A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5E0D-3EF2-4799-ACCA-74B17E6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7454-542E-4D43-99E2-FD321CB2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A65-C0DE-43F1-9542-DBEFDDB2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A8B3-E749-4472-A18E-612D5B85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2FEE-4A7C-445E-880B-0D1A55D4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972A-656A-4A0C-8F02-3DCC3A0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BBD-0B14-4D20-8791-BAD9E85B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6B7-CD3E-420E-AF45-69012BE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361D-9692-4AD2-9E76-DACF9BD4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FFCB-BE74-47C4-A74F-13EC2D14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7CBD-2A8A-44EB-8BC6-4DB7ADE3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506C-052C-4312-B4EB-BB1DFED8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7ADC-7A37-4CA7-B31A-1893749B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2A36-0911-44E6-A5AC-6C9F84F9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C6E70-7910-4261-8BBB-F7D954A8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4FE8-D88C-4873-8DF8-FEABFA0E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B831-95CB-4A71-BF53-064CE215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49A-F77C-4429-9577-DA47493D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9237-8663-4F6B-95ED-3D4734F4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8138-379E-489C-84A6-1CBA109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39B3-AFD6-4B46-B6AD-C0B26AA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276C-4855-431F-AD6A-15E5676F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A98B-2FC2-4CB6-A2B4-76D6C77B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7279-5114-48E6-88E1-D464C372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8810-0B8A-4254-B6F3-83F7B305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C726-BADB-4351-8784-AB3BEF4B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408D-25DC-4F54-AA09-4D41FA2A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1C16-6DE2-44C0-A75D-BB6FD94D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584-0540-4B9E-9C31-F5543B10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3AF1-A5A3-49E1-8003-ED613DA7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8091-3B6C-4663-AB2C-37B1A347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3F91-B9AA-4B40-80FD-3B6038D2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24B5-CF0E-4115-9E41-9623C05E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D0B1-E7FD-4AEB-A1C3-DD19D44E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F459-0DDC-42B1-B282-A4180C47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4DE05-CC18-4FA9-87C1-311E8757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EBB6-63D6-481E-B6E6-A4F1ABFF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12BA-6A41-4430-B85D-9A805A8D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E7FC5-6675-4E98-A547-1D03495B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E71-E45A-4E3A-91BB-410EFC0D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BDAB-B905-4BFC-8FBA-DB737BF8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803D-9DF8-440C-98F5-8C2BD2CE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CCE9F-076D-45B0-97C5-9BA2E5C6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D0B77-276D-4F86-B8BC-77C11E2E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F6950-020D-4FAF-9F08-04B994A7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165D5-5787-4E0D-9795-3928F54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8AC55-84EE-4878-AB4F-DADB730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26AB-8DD3-4D2A-88E6-21EB04FF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A750-14C5-4179-BF57-AE50D9AB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A77E-C49B-4957-8964-A10A2350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E1D-8B83-402A-B646-0E291996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9F91-DF19-4954-BEE3-8633FBBB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163A0-9E06-4906-886C-FEE2B2B7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F42D-9225-4ADA-AE1F-AB39C0F6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D0AC2-2AC5-4A10-87DD-FB2960F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90A2B-C43D-45C0-B60F-7C771B7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DBF2C-3889-4870-8E54-BE6169E6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99636-BFE5-455B-9D9C-A602221F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6E1F0-1958-4CA7-B38E-39A3466E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CD454-FD94-4F54-8499-BBFB3B5C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9CC4-C413-43AB-90E1-E9AB67C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8B9-63CD-458C-AEE3-8848301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358A6-8FFA-495E-B742-B93465EE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AD1E-8D42-4CD4-8539-3D56CAAE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6E5C2-DFF8-4D6E-8C1E-0BCAB606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EAC-8ABA-4954-9AF9-64097E8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3E9-F2D0-4E4D-AFB0-29DE0BC2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D291-7773-420E-B9F7-E646A8A2FF30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42A0-DB73-4E33-ACA3-5D5554FB19E4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0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6303-9049-4CCD-A0AF-53E059542900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21DA-017E-420C-9506-55AD9A13DE12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BC10-0794-4C1D-9BCD-EB46A04971B0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E396-AEDA-40DF-8F27-A8E612AB4A6A}" type="slidenum">
              <a:rPr b="0" lang="es-VE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14680" y="52862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d050"/>
                </a:solidFill>
                <a:latin typeface="Franklin Gothic Book"/>
              </a:rPr>
              <a:t>Sustainable Architectu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3 CuadroTexto"/>
          <p:cNvSpPr/>
          <p:nvPr/>
        </p:nvSpPr>
        <p:spPr>
          <a:xfrm>
            <a:off x="500040" y="50004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Show and tell-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lated with the environment</a:t>
            </a:r>
            <a:br>
              <a:rPr sz="41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286000" y="2000160"/>
            <a:ext cx="64771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cyclable mater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8574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Functional design: Color, Light, Spaces and Dimensions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643280" y="1641600"/>
            <a:ext cx="429444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47400" y="7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emperature contr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nderful and recyclable construc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6259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2:04:08Z</dcterms:created>
  <dc:creator>Marcos Colina</dc:creator>
  <dc:description/>
  <dc:language>en-US</dc:language>
  <cp:lastModifiedBy>Marcos Colina</cp:lastModifiedBy>
  <dcterms:modified xsi:type="dcterms:W3CDTF">2009-11-26T00:59:13Z</dcterms:modified>
  <cp:revision>9</cp:revision>
  <dc:subject/>
  <dc:title>Bio-construction</dc:title>
</cp:coreProperties>
</file>